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3F12-415E-43FD-8932-46ED897B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E68-4BEC-4E6A-ABC4-55F82DE2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B10-0F39-44DB-8A3E-219C30FF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318-C14D-4FFF-8B2D-D9FE711F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123F-0FCD-4E50-AA03-D06AA92A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F3F-8C2D-4A08-9BD2-ECE6C39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5E2-D9F8-440B-9625-6A26F062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F69-57BD-44D0-B24A-4D9C8371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310-5EE5-4AD3-8203-1E5F71B6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5A1-A0B5-458E-A7BB-5B8099D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0FA-323A-47A2-B882-27F930EB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A54-7FA4-4D4F-945E-31D7DA3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FC8A-6099-465D-AF85-7F2D38A7D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30b58ea3"/>
          <p:cNvPicPr/>
          <p:nvPr/>
        </p:nvPicPr>
        <p:blipFill>
          <a:blip r:embed="rId2"/>
          <a:stretch/>
        </p:blipFill>
        <p:spPr>
          <a:xfrm>
            <a:off x="2411280" y="620640"/>
            <a:ext cx="3760920" cy="3551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30b58ea3"/>
          <p:cNvPicPr/>
          <p:nvPr/>
        </p:nvPicPr>
        <p:blipFill>
          <a:blip r:embed="rId3"/>
          <a:stretch/>
        </p:blipFill>
        <p:spPr>
          <a:xfrm>
            <a:off x="2428920" y="642960"/>
            <a:ext cx="3760920" cy="35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2413080" y="5734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http://img-fotki.yandex.ru/get/5802/talana1959.11d/0_5733c_3ad1dc64_XL.jpg"/>
          <p:cNvPicPr/>
          <p:nvPr/>
        </p:nvPicPr>
        <p:blipFill>
          <a:blip r:embed="rId4"/>
          <a:stretch/>
        </p:blipFill>
        <p:spPr>
          <a:xfrm>
            <a:off x="357120" y="4430880"/>
            <a:ext cx="1785960" cy="1755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img-fotki.yandex.ru/get/5802/talana1959.11d/0_5733c_3ad1dc64_XL.jpg"/>
          <p:cNvPicPr/>
          <p:nvPr/>
        </p:nvPicPr>
        <p:blipFill>
          <a:blip r:embed="rId5"/>
          <a:stretch/>
        </p:blipFill>
        <p:spPr>
          <a:xfrm rot="14835000">
            <a:off x="6503760" y="4495320"/>
            <a:ext cx="193176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7280" y="1599840"/>
            <a:ext cx="70567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пословица гласит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облюдай режим труда и быта, будет здоровье крепче гранита»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14292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6000" y="2060280"/>
            <a:ext cx="71280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родная мудрость гласит: «Дерево держится своими корнями, а человек </a:t>
            </a: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пищей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58920" y="1989000"/>
            <a:ext cx="6913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народе говоря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Эта девочка красивая, как берёзка, а мальчик стройный, как тополё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920" y="1600200"/>
            <a:ext cx="734544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олотое прави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щения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Относись к окружающим так, как хочешь, что бы они относились к тебе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http://daru-vam-otkritku.ru/wp-content/uploads/2015/03/111505939_102899123_scrapangie_lilies_ele11.png"/>
          <p:cNvPicPr/>
          <p:nvPr/>
        </p:nvPicPr>
        <p:blipFill>
          <a:blip r:embed="rId1"/>
          <a:stretch/>
        </p:blipFill>
        <p:spPr>
          <a:xfrm>
            <a:off x="0" y="0"/>
            <a:ext cx="275112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ttp://daru-vam-otkritku.ru/wp-content/uploads/2015/03/111505939_102899123_scrapangie_lilies_ele11.png"/>
          <p:cNvPicPr/>
          <p:nvPr/>
        </p:nvPicPr>
        <p:blipFill>
          <a:blip r:embed="rId2"/>
          <a:stretch/>
        </p:blipFill>
        <p:spPr>
          <a:xfrm>
            <a:off x="6392880" y="4643280"/>
            <a:ext cx="2751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6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30b58ea3"/>
          <p:cNvPicPr/>
          <p:nvPr/>
        </p:nvPicPr>
        <p:blipFill>
          <a:blip r:embed="rId2"/>
          <a:stretch/>
        </p:blipFill>
        <p:spPr>
          <a:xfrm>
            <a:off x="2195640" y="765000"/>
            <a:ext cx="41925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20:05Z</dcterms:created>
  <dc:creator>марина</dc:creator>
  <dc:description/>
  <dc:language>en-US</dc:language>
  <cp:lastModifiedBy>Карина</cp:lastModifiedBy>
  <dcterms:modified xsi:type="dcterms:W3CDTF">2017-04-08T20:33:08Z</dcterms:modified>
  <cp:revision>76</cp:revision>
  <dc:subject/>
  <dc:title>Заголовок слайда</dc:title>
</cp:coreProperties>
</file>